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5734-ACEA-440C-B9DB-3AEC7B784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D11D-F95C-4B4D-AA4C-6785CEF3E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5D85-D56B-422A-AA1C-9EACE3E37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5DF7-7D9A-445F-AA93-D68E9F1BE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4952-5787-47B9-8B7D-172F142DB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0079-A078-4E58-968A-86BC01780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5424-F429-462A-AA93-89A64423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63FB-605B-4087-AB54-4321AD735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BC71-06CF-4D8E-9BB5-6774BF01E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DEE7-2194-4976-8D93-039DABB9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421B-F364-46F9-8A6F-A317B17A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9EDB-A61D-4D0D-AAE0-EC323031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8B177-C896-4C4B-A8A2-20268E1992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Nom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Arial"/>
              </a:rPr>
              <a:t>Classe: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Titre de votre histo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Situation initi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Élément perturbat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Péripé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Péripéties (suit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Péripéties (suit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Dénou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Situation fin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1T14:37:03Z</dcterms:created>
  <dc:creator>Paulette Hachez</dc:creator>
  <dc:description/>
  <dc:language>en-US</dc:language>
  <cp:lastModifiedBy>Paulette Hachez</cp:lastModifiedBy>
  <dcterms:modified xsi:type="dcterms:W3CDTF">2007-11-21T14:41:07Z</dcterms:modified>
  <cp:revision>2</cp:revision>
  <dc:subject/>
  <dc:title>Nom :</dc:title>
</cp:coreProperties>
</file>